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C6DC-111B-4C39-97A3-3A9A471A76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15CD-9D29-4D54-9A5A-B6E150DE57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8DFC-57F5-41A3-992F-24042771E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85C7-D86D-4E61-B209-5D96F40E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301B-50A2-4DB0-8183-D8FA552CE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53D1-B117-44F8-B375-052F853CE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53F9-9625-44B8-81FE-6B5D780E5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6C08-4DC0-47A0-86ED-FCC04178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E970-78E1-4DD9-84A2-670685C3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41F3-11AB-4A29-AC83-D9967CF2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9434-211D-4B5C-B7E5-DA54CB30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44B6-ED1C-495C-A1DF-DC503EC9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D6A8-9D61-4C31-B8D8-B70282A5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7B00-B616-43AC-BCEE-FB3562E9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7621-E79F-4036-9FA1-160EEEC9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E6D5-FF88-49D2-9AA0-C273A76B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66B2-4407-4E67-921C-5542A573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C204-2F6D-44F7-9DC2-DB1DDB97A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BBE0-D355-4BDC-B0C0-CA65DED81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B2CC-B53B-4995-82B7-F41788BC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CF20-AD14-4C3F-953A-96F89337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092D-D8D7-4556-A810-5B5A1648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56F2-AAE0-4DB8-BBD7-C9D4FBFD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C598-45CC-460E-8CA4-EF10B986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1642-F7DA-4A9E-84BF-E67B0081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457F-F642-499C-B30E-9FDD4E4D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6A23-801F-4531-8D4C-7EB41199578C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0F40-4E2E-45B5-B898-0253F4417064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27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LA MUTUELLE DES FORCES ARMÉES NATIONALES (MUFAN)</a:t>
            </a:r>
            <a:r>
              <a:rPr b="0" lang="fr-FR" sz="5800" spc="-1" strike="noStrike">
                <a:solidFill>
                  <a:srgbClr val="999900"/>
                </a:solidFill>
                <a:latin typeface="Garamond"/>
              </a:rPr>
              <a:t>:</a:t>
            </a:r>
            <a:br>
              <a:rPr sz="5800"/>
            </a:br>
            <a:r>
              <a:rPr b="0" lang="fr-FR" sz="3600" spc="-1" strike="noStrike">
                <a:solidFill>
                  <a:srgbClr val="999900"/>
                </a:solidFill>
                <a:latin typeface="Garamond"/>
              </a:rPr>
              <a:t>prestations garanties et modalités de prise en charge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7743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édecin colonel-major  Dominique ZOUR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conomiste de la sant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irecteur de la MUF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Courbe de demande d’adhésion en fonction de la prime (R2=0,51) (10)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7040" cy="4530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009800" y="13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Object 6"/>
          <p:cNvGraphicFramePr/>
          <p:nvPr/>
        </p:nvGraphicFramePr>
        <p:xfrm>
          <a:off x="1009800" y="1905120"/>
          <a:ext cx="7124400" cy="5333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9800" y="1905120"/>
                    <a:ext cx="712440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Dépenses de santé en fonction de l’âge (11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416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La prime (cotisations)  (12)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44360" y="23623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ût  moyen de l’hospitalisation 3236,55f/ adhér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C 80%, </a:t>
            </a:r>
            <a:r>
              <a:rPr b="1" lang="fr-FR" sz="2800" spc="-1" strike="noStrike" u="sng">
                <a:solidFill>
                  <a:srgbClr val="000000"/>
                </a:solidFill>
                <a:uFillTx/>
                <a:latin typeface="Verdana"/>
              </a:rPr>
              <a:t>prime = 2588,8 franc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les 20% à la charge de l’adhérent (ticket modérate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prime équit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me off= 2 fois prime MD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me sous-off = 1,5 fois prime du MD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Primes par catégorie (13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fficiers          = 4843 (5000)franc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s-officiers= 3632 (3600)franc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DR              = 2421,5 (2400) fran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II) Le panier de soins (14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énéficia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-343080">
              <a:spcBef>
                <a:spcPts val="499"/>
              </a:spcBef>
              <a:buClr>
                <a:srgbClr val="6666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 militaire seul sans sa famil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imites  géographiques de l’off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plateau technique national public/ à défaut, le priv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stations offer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édicaments          consultations spécialis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boratoire               Imagerie médic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ôtellerie                  Acte chirurgic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V) Modalités de prise en charge (15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édicament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(ayant l’AMM au Burkina Fas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escription médic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énériques et spécialit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clusion des vitamines non thérapeut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clusion des fortifia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afonnement de l’ordonnance à 3 mois de traite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utorisation spéciale si ordonnance &gt;100000 f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raitement du couple en cas d’I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oduit d’hygiène, cosmétologie, aphrodisiaque </a:t>
            </a:r>
            <a:r>
              <a:rPr b="0" lang="fr-FR" sz="2000" spc="-1" strike="noStrike">
                <a:solidFill>
                  <a:srgbClr val="ff0000"/>
                </a:solidFill>
                <a:latin typeface="Verdana"/>
              </a:rPr>
              <a:t>non prise en char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6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palier de prescri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terdiction de PEC si un examen&gt;50 000 fr sauf dérogation (prélèvements envoyés en 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ultations spécialis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ncipe de réfé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7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mager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palier de prescri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réseau de partena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cte chirurgic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réseau de partena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irurgie esthétique non PE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s de plafonnement dans la prise en char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C de prothèse bilatérale à la polyclinique NDP pour un montant de 1,6 millions en mai 2015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8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Hôtelleri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(chambre d’hospitalisati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pplication des tarifs en vigueur dans le secteur publ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 cas de prise en charge en clinique privée l’hôtellerie est incl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9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C limitée au plateau technique national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(donc pas de greffes d’organe, de chirurgie cardiaque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Pas de PEC des prothèses dentaires, des verres correcteu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C de la MUFAN = panier intermédiaire RAMU-B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Plan (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) La  genèse de la MUFAN (contexte et justificatio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I) L’Etude de faisabilit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II) Le panier de so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V) Les conditions de prise en char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) Les résultats atte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I) Les enseignements à ti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20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lauses de contrat avec les partenaires (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Verdana"/>
              </a:rPr>
              <a:t>service assurance qualité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bligation de vérification du respect du palier de prescrip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bligation de vérification de l’identité du bénéficiaire de la pres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terdiction de délivrance des produits non pris en charge par la MUF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terdiction de délivrance si quantité&gt; 3 mois de traitement ou 100 000 f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21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lauses de contrat avec les bénéficia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spect du réseau de partenai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spect des procédures médico-militai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ésentation des documents d’identification au prestat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on PEC des examens demandés dans le cadre médico-administratif (aptitude pour stage ou mission) ou dans le cadre médico-légal (test d’AD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lafonnement à 250 000fr en l’absence d’une pathologie chronique identifiée (suspension de la PEC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iers payant avec un ticket modérateur de 2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) Les résultats atteints    (2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us de 95% des militaires sont membres de la MUF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ogiciel de traitement de données adapté à la gestion du portefeuille de ris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 2014, plus de 10 000 adhérents PEC pour un montant de plus de 437 millions  la PEC la plus élevée étant de 3,2 mill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ût moyen/ adhérent PEC 2014: 25658 fran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2,5 milliards de francs distribués aux prestataires depuis 20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cc00"/>
                </a:solidFill>
                <a:latin typeface="Verdana"/>
              </a:rPr>
              <a:t>Plus d’un milliard de francs de réser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Chiffres d’affaires depuis 2008 (23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57120" y="2643120"/>
          <a:ext cx="8229600" cy="26146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13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ten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. Hôpital Oua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. Aoudi Bob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AM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MA Schiph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U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4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iffres d’affaire auprès de la MUF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3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1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4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I) Les enseignements à tirer    (24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Les déterminants de l’escalade des coû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catégorie socioéconomique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Verdana"/>
              </a:rPr>
              <a:t>communication journée scientifique de Nouna 2009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vitamines et fortifiants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8,53% des dépenses en  médicaments en 2010; principe de l’élasticité prix de la demand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non respect des schémas thérapeutiques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cas du palu: 22,68% ordonnances et 21, 84% dépenses de santé; non respect des GDT et des algorithmes =&gt; molécule spécifique =1/3 du coût de l’ordonnance;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Verdana"/>
              </a:rPr>
              <a:t>JSSB 2010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recours excessif aux médicaments de spécialité ayant des équivalents génériques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82 millions/ 364 millions soit 22% de surcoût de dépenses en médicaments;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Verdana"/>
              </a:rPr>
              <a:t>JSSB 2014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conclus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se en charge des gros risques et des petits ris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etits risques: facteur inflationniste (élasticité prix de la demande est fort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rticulation mutuelle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(petit risque et contrôle social) </a:t>
            </a:r>
            <a:r>
              <a:rPr b="1" i="1" lang="fr-FR" sz="2400" spc="-1" strike="noStrike">
                <a:solidFill>
                  <a:srgbClr val="000000"/>
                </a:solidFill>
                <a:latin typeface="Verdana"/>
              </a:rPr>
              <a:t>/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AMU BF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(gros risque dont la demande est inélastiqu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fficacité des mécanismes de régulation (Régulateur des soins: GDT, algorithm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Verdana"/>
              </a:rPr>
              <a:t>Le panier de soins en relation avec la capacité de gestion du risque mor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) Contexte et justifications (3)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1) besoins croissants en matière de santé (démographique, épidémiologique , technologiqu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2) fin de l’État provid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3) l’accessibilité aux soins comme objectif du PNDS au Burkina Fa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4) forte attente du militaire pour une meilleure protection soci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5) contexte réglementaire favorable à la création de structure de couvertures sociales (art 19 du statut général des personnels des F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6) plus grande opérationnalité de l’Armé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7) contribution à l’équilibre financier  (les hommes à l’abri des usurie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8)  l’hôpital militaire au service réel du milit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II) Étude de faisabilité: objectifs (4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(étude faite en 200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urcentage de militaires confrontés à une inaccessibilité financière aux so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pinion sur une mutuelle de san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Times New Roman"/>
              </a:rPr>
              <a:t>Étude de faisabilité: les points clés (5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55,9% des enquêtés ont été confrontés à une inaccessibilité financière aux soins (intervalle de trois moi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oies de recours habituelles (6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8" name="Object 3" descr=""/>
          <p:cNvPicPr/>
          <p:nvPr/>
        </p:nvPicPr>
        <p:blipFill>
          <a:blip r:embed="rId1"/>
          <a:stretch/>
        </p:blipFill>
        <p:spPr>
          <a:xfrm>
            <a:off x="849240" y="2058840"/>
            <a:ext cx="7672320" cy="414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oies de recours habituelles (7) 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0" name="Object 3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69608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ntentions formelles d’adhésion 61.98%  (8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ants de l’adhé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Verdana"/>
              </a:rPr>
              <a:t>la Caisse Épargne Santé     </a:t>
            </a:r>
            <a:r>
              <a:rPr b="0" i="1" lang="fr-FR" sz="2000" spc="-1" strike="noStrike" u="sng">
                <a:solidFill>
                  <a:srgbClr val="ff0000"/>
                </a:solidFill>
                <a:uFillTx/>
                <a:latin typeface="Verdana"/>
              </a:rPr>
              <a:t>(influence négativ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Verdana"/>
              </a:rPr>
              <a:t>La solidarité                       </a:t>
            </a:r>
            <a:r>
              <a:rPr b="0" i="1" lang="fr-FR" sz="2000" spc="-1" strike="noStrike" u="sng">
                <a:solidFill>
                  <a:srgbClr val="00cc00"/>
                </a:solidFill>
                <a:uFillTx/>
                <a:latin typeface="Verdana"/>
              </a:rPr>
              <a:t>(influence positiv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Verdana"/>
              </a:rPr>
              <a:t>L’aversion pour le risque     </a:t>
            </a:r>
            <a:r>
              <a:rPr b="0" i="1" lang="fr-FR" sz="2000" spc="-1" strike="noStrike" u="sng">
                <a:solidFill>
                  <a:srgbClr val="00cc00"/>
                </a:solidFill>
                <a:uFillTx/>
                <a:latin typeface="Verdana"/>
              </a:rPr>
              <a:t>(influence positive</a:t>
            </a:r>
            <a:r>
              <a:rPr b="0" i="1" lang="fr-FR" sz="2000" spc="-1" strike="noStrike" u="sng">
                <a:solidFill>
                  <a:srgbClr val="000000"/>
                </a:solidFill>
                <a:uFillTx/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prime (solidarité: prime&lt;ou= 1000f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Disposition à payer: Propositions de primes faites par les enquêtés (9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32416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5" name="Object 4"/>
          <p:cNvGraphicFramePr/>
          <p:nvPr/>
        </p:nvGraphicFramePr>
        <p:xfrm>
          <a:off x="990720" y="2286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86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Rectangle 5"/>
          <p:cNvSpPr/>
          <p:nvPr/>
        </p:nvSpPr>
        <p:spPr>
          <a:xfrm>
            <a:off x="232416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08:19:19Z</dcterms:created>
  <dc:creator>DEP</dc:creator>
  <dc:description/>
  <dc:language>en-US</dc:language>
  <cp:lastModifiedBy>Baly Ouattara</cp:lastModifiedBy>
  <dcterms:modified xsi:type="dcterms:W3CDTF">2015-06-09T13:57:14Z</dcterms:modified>
  <cp:revision>127</cp:revision>
  <dc:subject/>
  <dc:title>MUTUELLE DES FAN</dc:title>
</cp:coreProperties>
</file>